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10.wmf" ContentType="image/x-wmf"/>
  <Override PartName="/ppt/media/image2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1.png" ContentType="image/png"/>
  <Override PartName="/ppt/media/image22.wmf" ContentType="image/x-wmf"/>
  <Override PartName="/ppt/media/image19.png" ContentType="image/png"/>
  <Override PartName="/ppt/media/image18.wmf" ContentType="image/x-wmf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29B1-94C2-4666-A185-BE8A6C80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statis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eople show that h, r are not indepedendent but conditionally independent given that A = {r &lt; 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random variable is a random variable like any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ed with some experiment – flipping a coin – which gave us our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d 2 random variables on that sample space: h and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se 2 random variables, its values represented events which, taken together, represented an event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en we define a new random variable using the other 2, this new random variable behaves exactly the same way as each of the original 2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o back to the event space and define the values of the new random variable for each point in the sample space. From that we also have the P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gives us the mass. PDF gives us the density. Density is mass per unit volume, mass/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provides the same type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last time (do each concept as a class/ objec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oints in a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ly exclusive, collectively exhaustive, finest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on that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space is a group of events that mutually exclusive and collectively exhau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ach sample point and add those together to get the probability of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Probability:P(A|B) = P(AB)/P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: P(A|B) = P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LO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picture looked lik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sample points in a sample space (draw the sample points and sample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ample point is a member of  a list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is a list of 0 or more sampl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8 sample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re collections of sample points. We can group sample points together into events based on each sample points’ value of a particular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4 events based on the random variable h = 0,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3 events based on the random variable r = 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6 events based on the intersection of the rando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alue of our random variable represents an event in the event space for that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h0 is a particular value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efine the PMF from the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is is an event space, its not finest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lets say we wanted to know whether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s resulted in heads. We wouldn’t be able to use this to answer tha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it’s a 3d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how you go from compound to marginal pmf. Show that you can’t go visa-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1E9-9CEC-41EC-A63E-07B1E51B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9F1-1F6B-4DE1-8FFB-5E9AE2C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47C-84FC-4B20-B736-55983979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F11-0E96-4FBC-9A79-E6C1AF72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086-0186-4C5E-82F7-F8237351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F30-1374-41FA-93BB-1D3A0FA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D95-6C0E-45E0-B79D-D925A15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B9F-3CAE-4A6F-97DC-D85C213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D38-D650-4802-A878-1A5C46CF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46F-488B-4DC6-8F16-3CA62BD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5D8-607E-4435-BA4E-A356E1B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A68-8F99-4EAE-9CC0-55CD678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262-851C-4AA8-AF83-D7B13974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y prob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9280" y="20574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05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5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independent 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) = P(x0)*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5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0|y0) = P(x0y0) / 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conditionally independent if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 | A) = P(x0|A)*P(y0|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533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defined on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n random variable(s) creates a new random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962520" cy="304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35120" y="48006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f(h, r) =  h*r = {0, 1, 2, 4,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6390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94000" y="220968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= f(h) =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{0, 1, 4, 9}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82296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g(x)]  =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w] = E[g(x,y)] = ∑ [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624120"/>
            <a:ext cx="82296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∑ [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 = E[ (x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inuous Sample Spaces, Event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840" y="2514600"/>
            <a:ext cx="336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640" y="1295280"/>
            <a:ext cx="83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infinitely many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76920"/>
            <a:ext cx="6400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704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5904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27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85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20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18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5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13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50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488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71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08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838080" y="1066680"/>
            <a:ext cx="7086600" cy="1684080"/>
            <a:chOff x="838080" y="1066680"/>
            <a:chExt cx="7086600" cy="1684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838080" y="1066680"/>
              <a:ext cx="67820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0600" y="1226880"/>
              <a:ext cx="31240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3520" y="533520"/>
            <a:ext cx="82296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760" y="38638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425840"/>
            <a:ext cx="8153640" cy="21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304920" y="1143000"/>
          <a:ext cx="403848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724280" y="1143000"/>
            <a:ext cx="4029120" cy="2693880"/>
            <a:chOff x="4724280" y="1143000"/>
            <a:chExt cx="4029120" cy="2693880"/>
          </a:xfrm>
        </p:grpSpPr>
        <p:graphicFrame>
          <p:nvGraphicFramePr>
            <p:cNvPr id="169" name=""/>
            <p:cNvGraphicFramePr/>
            <p:nvPr/>
          </p:nvGraphicFramePr>
          <p:xfrm>
            <a:off x="4724280" y="1143000"/>
            <a:ext cx="4029120" cy="269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1143000"/>
                      <a:ext cx="402912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V="1">
              <a:off x="5553000" y="1371600"/>
              <a:ext cx="2590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533520"/>
            <a:ext cx="8229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Density Function (P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(x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839960"/>
            <a:ext cx="5257800" cy="85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6591240" cy="1730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266688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638680" y="5602320"/>
            <a:ext cx="175284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5400000">
            <a:off x="3657600" y="1752120"/>
            <a:ext cx="533520" cy="6477120"/>
          </a:xfrm>
          <a:custGeom>
            <a:avLst/>
            <a:gdLst>
              <a:gd name="textAreaLeft" fmla="*/ 0 w 533520"/>
              <a:gd name="textAreaRight" fmla="*/ 192600 w 5335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v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559400" cy="165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132240" cy="161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it-Impuls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360" y="14079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rivative of f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4880" y="5708520"/>
            <a:ext cx="24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’(x) d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7200" y="5599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616600">
            <a:off x="1638360" y="23238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616600">
            <a:off x="3695760" y="36954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67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55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28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MF &amp; 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865080"/>
            <a:ext cx="1752480" cy="58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57400" cy="517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410080" y="6078600"/>
            <a:ext cx="1905120" cy="70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543800" y="6219720"/>
            <a:ext cx="106668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762120" y="1295280"/>
          <a:ext cx="36576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36576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29200" y="990720"/>
          <a:ext cx="37339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3733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1206360"/>
            <a:ext cx="2826000" cy="1917720"/>
          </a:xfrm>
          <a:custGeom>
            <a:avLst/>
            <a:gdLst/>
            <a:ahLst/>
            <a:rect l="l" t="t" r="r" b="b"/>
            <a:pathLst>
              <a:path w="1780" h="1208">
                <a:moveTo>
                  <a:pt x="0" y="1208"/>
                </a:moveTo>
                <a:lnTo>
                  <a:pt x="176" y="848"/>
                </a:lnTo>
                <a:lnTo>
                  <a:pt x="376" y="552"/>
                </a:lnTo>
                <a:lnTo>
                  <a:pt x="696" y="320"/>
                </a:lnTo>
                <a:lnTo>
                  <a:pt x="968" y="184"/>
                </a:lnTo>
                <a:lnTo>
                  <a:pt x="1248" y="88"/>
                </a:lnTo>
                <a:lnTo>
                  <a:pt x="178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724280" y="685800"/>
            <a:ext cx="4159440" cy="527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77120" y="228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81480" y="3809880"/>
          <a:ext cx="3733920" cy="2667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1480" y="3809880"/>
                    <a:ext cx="373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43600" y="5029200"/>
            <a:ext cx="28954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3962520"/>
          <a:ext cx="4038840" cy="269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3962520"/>
                    <a:ext cx="403884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0" y="3747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Densi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5200" y="1066680"/>
            <a:ext cx="8013600" cy="3116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073160" y="4302000"/>
            <a:ext cx="69976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560" y="228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 = {&lt; 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85800"/>
            <a:ext cx="312444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6360" y="16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89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33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06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83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38520" y="1676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27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4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308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685800"/>
            <a:ext cx="685800" cy="1295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2590920" cy="6094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80560" y="21477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 = {od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96520" y="304920"/>
            <a:ext cx="339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&lt;SamplePoints&gt; allSample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8200" y="2666880"/>
            <a:ext cx="319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ModelOf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Point doExperi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Space getSampleSpa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an generate this using tre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ordinat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4720" y="1447920"/>
            <a:ext cx="328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eventsIAmAMemberO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probabil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11920" y="3048120"/>
            <a:ext cx="4257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SamplePoint&gt; samplePointsICont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computeProbability();//sum over sample 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1640" y="5505480"/>
            <a:ext cx="3271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complement(Event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intersect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un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36232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9625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20" y="4394160"/>
            <a:ext cx="4557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 = P(AB)/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ent condProb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= P(A),  or P(AB) = P(A)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Independent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In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B | C) = P(A|C)P(B|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CondInd(Event A, Event B, Event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yes Theorem,  Combinations, Permu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680000"/>
            <a:ext cx="29718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5334120"/>
            <a:ext cx="3708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9436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133720"/>
            <a:ext cx="3124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3876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specialSetOfEve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838080"/>
            <a:ext cx="2590920" cy="6098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5680" y="2286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 = {ev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7048800" cy="104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104840" y="2057400"/>
            <a:ext cx="7658280" cy="59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93800" y="2590920"/>
            <a:ext cx="7556400" cy="108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3505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860480" y="5029200"/>
            <a:ext cx="5423040" cy="156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09480" y="4075200"/>
            <a:ext cx="8115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74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92280" y="4390920"/>
            <a:ext cx="7759440" cy="155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0800" y="1143000"/>
            <a:ext cx="75009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Variables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Random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335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Flip a coin 3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3209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53000" y="2438280"/>
            <a:ext cx="46188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84880" y="2514600"/>
            <a:ext cx="63504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741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total #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length of longest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g. 2 tails in a 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 btw. random variable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1800" y="2876400"/>
            <a:ext cx="8420400" cy="39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50280" y="3495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9160" y="34956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4120" y="430200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080" y="4302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5840" y="52484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0080" y="52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8880" y="1878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02840" y="1752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5520" y="1766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6440" y="129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06440" y="1523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8720" y="1766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0400" y="1295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0" y="153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7280" y="17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457440"/>
            <a:ext cx="82296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F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robability that the experimental outcome will have h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600" y="1905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881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9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4572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996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5715000"/>
            <a:ext cx="236232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00200" y="5715000"/>
            <a:ext cx="2666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33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4382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19920" y="2263680"/>
            <a:ext cx="2361960" cy="78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867280" y="1447920"/>
            <a:ext cx="26672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52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3476520"/>
            <a:ext cx="3391200" cy="95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962520" cy="3044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4583160"/>
            <a:ext cx="359388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15080" y="5472000"/>
            <a:ext cx="3543120" cy="9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7925040" cy="12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200808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8:35:41Z</dcterms:created>
  <dc:creator>Ben</dc:creator>
  <dc:description/>
  <dc:language>en-US</dc:language>
  <cp:lastModifiedBy>Ben</cp:lastModifiedBy>
  <dcterms:modified xsi:type="dcterms:W3CDTF">2010-11-17T03:31:32Z</dcterms:modified>
  <cp:revision>811</cp:revision>
  <dc:subject/>
  <dc:title>Slide 1</dc:title>
</cp:coreProperties>
</file>